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6AC-8E09-4CFA-AE92-30577741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F81-96E0-4DB3-9139-535FB063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9C3-6CF5-44BB-9251-5B69C917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79B-ECB5-4784-B4C4-262949D6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E4E-1482-4658-92E4-B11E576F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ED6-2969-4F5A-83EF-68DA36FB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EE4-F794-4D74-96DF-D62F1B5F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F17-7E1E-428B-B6A5-66311CEC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0D6-3D28-4C05-9895-7ABFB773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347-5E97-40B6-AA3B-148E620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C35-EF82-415A-A874-C3CA315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2C5-D715-483E-BB38-EFFEC1A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54B8-84BD-4F05-AA61-880E7CFF8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457200"/>
            <a:ext cx="7619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rections to Jenn and Steve's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762120"/>
            <a:ext cx="4962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643 Blue Water Drive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eeport, TX  77541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1240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1240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200400"/>
            <a:ext cx="838440" cy="6094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r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62000" y="2046600"/>
            <a:ext cx="10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Y 3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2819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825000" y="44031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 792/Blue Water 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5383" t="16668" r="14423" b="25642"/>
          <a:stretch/>
        </p:blipFill>
        <p:spPr>
          <a:xfrm>
            <a:off x="5257800" y="4114800"/>
            <a:ext cx="342900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7631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022600" y="2185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ton Ridge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124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M 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2860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yster Cre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14479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1240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095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60199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200400"/>
            <a:ext cx="426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HWY 332 toward Surf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North onto FM 523 at Bucee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past Oyster Creek turn east onto CR 792/Blue Water 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2.5 miles to Hide-A-Way sub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3 is over the bridge,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se on the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20:49:58Z</dcterms:created>
  <dc:creator>jbarr</dc:creator>
  <dc:description/>
  <dc:language>en-US</dc:language>
  <cp:lastModifiedBy>jbarr</cp:lastModifiedBy>
  <dcterms:modified xsi:type="dcterms:W3CDTF">2009-12-08T17:04:49Z</dcterms:modified>
  <cp:revision>11</cp:revision>
  <dc:subject/>
  <dc:title>Slide 1</dc:title>
</cp:coreProperties>
</file>